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4C59-B987-4500-9D65-59C1D36E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1CE-A769-4EFD-B87B-5F32C823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015-DE5E-4B5B-90D2-1667FF74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31B-9995-4A05-989C-B80E714B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812-3D8E-4A90-87AE-E2E476B4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A15-B62D-4B1D-A31F-C542B20F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222-51CF-41EB-B08C-B6441B51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607C-04ED-42F7-9237-C4BAAC63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85F-AE29-4AA7-9378-0CE41E71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9AD-6413-406E-88C0-FF987B00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BB8-0C3F-468A-B1D5-1676FC7F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795-4661-474D-BE9B-B3224EAB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0967C-EDDD-4C0B-AE49-78E19205B35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brand_ppt_back.jpg"/>
          <p:cNvPicPr/>
          <p:nvPr/>
        </p:nvPicPr>
        <p:blipFill>
          <a:blip r:embed="rId1"/>
          <a:stretch/>
        </p:blipFill>
        <p:spPr>
          <a:xfrm>
            <a:off x="0" y="0"/>
            <a:ext cx="9229680" cy="6923160"/>
          </a:xfrm>
          <a:prstGeom prst="rect">
            <a:avLst/>
          </a:prstGeom>
          <a:ln w="0">
            <a:noFill/>
          </a:ln>
        </p:spPr>
      </p:pic>
      <p:sp>
        <p:nvSpPr>
          <p:cNvPr id="42" name="Straight Connector 9"/>
          <p:cNvSpPr/>
          <p:nvPr/>
        </p:nvSpPr>
        <p:spPr>
          <a:xfrm>
            <a:off x="517680" y="2809800"/>
            <a:ext cx="7013520" cy="0"/>
          </a:xfrm>
          <a:prstGeom prst="line">
            <a:avLst/>
          </a:prstGeom>
          <a:ln w="25560">
            <a:solidFill>
              <a:srgbClr val="ffffff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TAB_allwhite.eps"/>
          <p:cNvPicPr/>
          <p:nvPr/>
        </p:nvPicPr>
        <p:blipFill>
          <a:blip r:embed="rId2"/>
          <a:stretch/>
        </p:blipFill>
        <p:spPr>
          <a:xfrm>
            <a:off x="522360" y="509760"/>
            <a:ext cx="1663560" cy="711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alibri"/>
              </a:rPr>
              <a:t>Life Scienc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368360" y="285264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are we up 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4"/>
          <p:cNvSpPr/>
          <p:nvPr/>
        </p:nvSpPr>
        <p:spPr>
          <a:xfrm>
            <a:off x="2084400" y="6356520"/>
            <a:ext cx="497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Information and Communication Services (Web), Faculty of Life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2718360" y="4581360"/>
            <a:ext cx="37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len Robi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len.robinson@manchester.ac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TAB_col_white_background.eps"/>
          <p:cNvPicPr/>
          <p:nvPr/>
        </p:nvPicPr>
        <p:blipFill>
          <a:blip r:embed="rId1"/>
          <a:stretch/>
        </p:blipFill>
        <p:spPr>
          <a:xfrm>
            <a:off x="330120" y="291960"/>
            <a:ext cx="1663920" cy="711360"/>
          </a:xfrm>
          <a:prstGeom prst="rect">
            <a:avLst/>
          </a:prstGeom>
          <a:ln w="0">
            <a:noFill/>
          </a:ln>
        </p:spPr>
      </p:pic>
      <p:sp>
        <p:nvSpPr>
          <p:cNvPr id="89" name="Content Placeholder 2"/>
          <p:cNvSpPr/>
          <p:nvPr/>
        </p:nvSpPr>
        <p:spPr>
          <a:xfrm>
            <a:off x="468360" y="1143000"/>
            <a:ext cx="822960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Geneva"/>
              </a:rPr>
              <a:t>Web Editing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Geneva"/>
              </a:rPr>
              <a:t>Delayed, but now progr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Geneva"/>
              </a:rPr>
              <a:t>Rollout to first customer 11 November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Geneva"/>
              </a:rPr>
              <a:t>Colum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Geneva"/>
              </a:rPr>
              <a:t>Estimated rollout to control group December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Geneva"/>
              </a:rPr>
              <a:t>Word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Geneva"/>
              </a:rPr>
              <a:t>Investigate using Wordpress to devolve management of news and events to 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1832040" y="6356520"/>
            <a:ext cx="547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nformation and Communication Services (Web), Faculty of Life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brand_ppt_back.jpg"/>
          <p:cNvPicPr/>
          <p:nvPr/>
        </p:nvPicPr>
        <p:blipFill>
          <a:blip r:embed="rId1"/>
          <a:stretch/>
        </p:blipFill>
        <p:spPr>
          <a:xfrm>
            <a:off x="0" y="0"/>
            <a:ext cx="9229680" cy="692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TAB_allwhite.eps"/>
          <p:cNvPicPr/>
          <p:nvPr/>
        </p:nvPicPr>
        <p:blipFill>
          <a:blip r:embed="rId2"/>
          <a:stretch/>
        </p:blipFill>
        <p:spPr>
          <a:xfrm>
            <a:off x="522360" y="509760"/>
            <a:ext cx="1663560" cy="711000"/>
          </a:xfrm>
          <a:prstGeom prst="rect">
            <a:avLst/>
          </a:prstGeom>
          <a:ln w="0">
            <a:noFill/>
          </a:ln>
        </p:spPr>
      </p:pic>
      <p:sp>
        <p:nvSpPr>
          <p:cNvPr id="93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Geneva"/>
              </a:rPr>
              <a:t>Redesign Faculty website in partnership with colleagues in Marketing &amp; Com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434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Geneva"/>
              </a:rPr>
              <a:t>Complementary to new Uni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434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Geneva"/>
              </a:rPr>
              <a:t>Deliver roughly in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434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Geneva"/>
              </a:rPr>
              <a:t>SEO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434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Geneva"/>
              </a:rPr>
              <a:t>Cooperative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434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Geneva"/>
              </a:rPr>
              <a:t>Some restruc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1832040" y="6356520"/>
            <a:ext cx="547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Information and Communication Services (Web), Faculty of Life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TAB_col_white_background.eps"/>
          <p:cNvPicPr/>
          <p:nvPr/>
        </p:nvPicPr>
        <p:blipFill>
          <a:blip r:embed="rId1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Geneva"/>
              </a:rPr>
              <a:t>Goo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468360" y="31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tent Placeholder 5"/>
          <p:cNvSpPr/>
          <p:nvPr/>
        </p:nvSpPr>
        <p:spPr>
          <a:xfrm>
            <a:off x="539640" y="429264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now have to deliver the projects we based Fran’s case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3"/>
          <p:cNvSpPr/>
          <p:nvPr/>
        </p:nvSpPr>
        <p:spPr>
          <a:xfrm>
            <a:off x="1908000" y="6356520"/>
            <a:ext cx="540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nformation and Communication Services (Web), Faculty of Life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tent Placeholder 5"/>
          <p:cNvSpPr/>
          <p:nvPr/>
        </p:nvSpPr>
        <p:spPr>
          <a:xfrm>
            <a:off x="525600" y="160020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Faculty have extended Fran Slater’s contract until July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rand_ppt_back.jpg"/>
          <p:cNvPicPr/>
          <p:nvPr/>
        </p:nvPicPr>
        <p:blipFill>
          <a:blip r:embed="rId1"/>
          <a:stretch/>
        </p:blipFill>
        <p:spPr>
          <a:xfrm>
            <a:off x="0" y="0"/>
            <a:ext cx="9229680" cy="692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TAB_allwhite.eps"/>
          <p:cNvPicPr/>
          <p:nvPr/>
        </p:nvPicPr>
        <p:blipFill>
          <a:blip r:embed="rId2"/>
          <a:stretch/>
        </p:blipFill>
        <p:spPr>
          <a:xfrm>
            <a:off x="522360" y="509760"/>
            <a:ext cx="1663560" cy="711000"/>
          </a:xfrm>
          <a:prstGeom prst="rect">
            <a:avLst/>
          </a:prstGeom>
          <a:ln w="0">
            <a:noFill/>
          </a:ln>
        </p:spPr>
      </p:pic>
      <p:sp>
        <p:nvSpPr>
          <p:cNvPr id="57" name="Title 1"/>
          <p:cNvSpPr/>
          <p:nvPr/>
        </p:nvSpPr>
        <p:spPr>
          <a:xfrm>
            <a:off x="468360" y="149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  <a:ea typeface="Geneva"/>
              </a:rPr>
              <a:t>Websites deliv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6"/>
          <p:cNvSpPr/>
          <p:nvPr/>
        </p:nvSpPr>
        <p:spPr>
          <a:xfrm>
            <a:off x="468360" y="1128600"/>
            <a:ext cx="81471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446040"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Geneva"/>
              </a:rPr>
              <a:t>Anne White’s Research Group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Geneva"/>
              </a:rPr>
              <a:t>(lab web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1619280" y="1814400"/>
            <a:ext cx="5888160" cy="4489560"/>
          </a:xfrm>
          <a:prstGeom prst="rect">
            <a:avLst/>
          </a:prstGeom>
          <a:ln w="0">
            <a:noFill/>
          </a:ln>
        </p:spPr>
      </p:pic>
      <p:sp>
        <p:nvSpPr>
          <p:cNvPr id="60" name="Footer Placeholder 3"/>
          <p:cNvSpPr/>
          <p:nvPr/>
        </p:nvSpPr>
        <p:spPr>
          <a:xfrm>
            <a:off x="1908000" y="6505560"/>
            <a:ext cx="540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Information and Communication Services (Web), Faculty of Life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TAB_col_white_background.eps"/>
          <p:cNvPicPr/>
          <p:nvPr/>
        </p:nvPicPr>
        <p:blipFill>
          <a:blip r:embed="rId1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sp>
        <p:nvSpPr>
          <p:cNvPr id="62" name="Content Placeholder 2"/>
          <p:cNvSpPr/>
          <p:nvPr/>
        </p:nvSpPr>
        <p:spPr>
          <a:xfrm>
            <a:off x="468360" y="1185840"/>
            <a:ext cx="822960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Geneva"/>
              </a:rPr>
              <a:t>The TAMPting Network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(EU framework gr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415880" y="1730520"/>
            <a:ext cx="6472440" cy="4586040"/>
          </a:xfrm>
          <a:prstGeom prst="rect">
            <a:avLst/>
          </a:prstGeom>
          <a:ln w="0">
            <a:noFill/>
          </a:ln>
        </p:spPr>
      </p:pic>
      <p:sp>
        <p:nvSpPr>
          <p:cNvPr id="64" name="Footer Placeholder 3"/>
          <p:cNvSpPr/>
          <p:nvPr/>
        </p:nvSpPr>
        <p:spPr>
          <a:xfrm>
            <a:off x="1908000" y="6356520"/>
            <a:ext cx="540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nformation and Communication Services (Web), Faculty of Life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brand_ppt_back.jpg"/>
          <p:cNvPicPr/>
          <p:nvPr/>
        </p:nvPicPr>
        <p:blipFill>
          <a:blip r:embed="rId1"/>
          <a:stretch/>
        </p:blipFill>
        <p:spPr>
          <a:xfrm>
            <a:off x="0" y="0"/>
            <a:ext cx="9229680" cy="6923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" descr="TAB_allwhite.eps"/>
          <p:cNvPicPr/>
          <p:nvPr/>
        </p:nvPicPr>
        <p:blipFill>
          <a:blip r:embed="rId2"/>
          <a:stretch/>
        </p:blipFill>
        <p:spPr>
          <a:xfrm>
            <a:off x="339840" y="291960"/>
            <a:ext cx="1663560" cy="711360"/>
          </a:xfrm>
          <a:prstGeom prst="rect">
            <a:avLst/>
          </a:prstGeom>
          <a:ln w="0">
            <a:noFill/>
          </a:ln>
        </p:spPr>
      </p:pic>
      <p:sp>
        <p:nvSpPr>
          <p:cNvPr id="67" name="Footer Placeholder 3"/>
          <p:cNvSpPr/>
          <p:nvPr/>
        </p:nvSpPr>
        <p:spPr>
          <a:xfrm>
            <a:off x="1908000" y="6527880"/>
            <a:ext cx="540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Information and Communication Services (Web), Faculty of Life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1436760" y="1662120"/>
            <a:ext cx="6230880" cy="4829040"/>
          </a:xfrm>
          <a:prstGeom prst="rect">
            <a:avLst/>
          </a:prstGeom>
          <a:ln w="0">
            <a:noFill/>
          </a:ln>
        </p:spPr>
      </p:pic>
      <p:sp>
        <p:nvSpPr>
          <p:cNvPr id="69" name="Content Placeholder 2"/>
          <p:cNvSpPr/>
          <p:nvPr/>
        </p:nvSpPr>
        <p:spPr>
          <a:xfrm>
            <a:off x="457200" y="93996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Dan Davis Lab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(Lab web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TAB_col_white_background.eps"/>
          <p:cNvPicPr/>
          <p:nvPr/>
        </p:nvPicPr>
        <p:blipFill>
          <a:blip r:embed="rId1"/>
          <a:stretch/>
        </p:blipFill>
        <p:spPr>
          <a:xfrm>
            <a:off x="363600" y="338040"/>
            <a:ext cx="1663560" cy="71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204920" y="1622520"/>
            <a:ext cx="6535800" cy="4803840"/>
          </a:xfrm>
          <a:prstGeom prst="rect">
            <a:avLst/>
          </a:prstGeom>
          <a:ln w="0">
            <a:noFill/>
          </a:ln>
        </p:spPr>
      </p:pic>
      <p:sp>
        <p:nvSpPr>
          <p:cNvPr id="72" name="Content Placeholder 2"/>
          <p:cNvSpPr/>
          <p:nvPr/>
        </p:nvSpPr>
        <p:spPr>
          <a:xfrm>
            <a:off x="611280" y="98280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im Lab –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, pending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1908000" y="6459480"/>
            <a:ext cx="540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nformation and Communication Services (Web), Faculty of Life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brand_ppt_back.jpg"/>
          <p:cNvPicPr/>
          <p:nvPr/>
        </p:nvPicPr>
        <p:blipFill>
          <a:blip r:embed="rId1"/>
          <a:stretch/>
        </p:blipFill>
        <p:spPr>
          <a:xfrm>
            <a:off x="0" y="0"/>
            <a:ext cx="9229680" cy="692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TAB_allwhite.eps"/>
          <p:cNvPicPr/>
          <p:nvPr/>
        </p:nvPicPr>
        <p:blipFill>
          <a:blip r:embed="rId2"/>
          <a:stretch/>
        </p:blipFill>
        <p:spPr>
          <a:xfrm>
            <a:off x="322200" y="298440"/>
            <a:ext cx="1663920" cy="711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1665360" y="1722600"/>
            <a:ext cx="5786280" cy="4776480"/>
          </a:xfrm>
          <a:prstGeom prst="rect">
            <a:avLst/>
          </a:prstGeom>
          <a:ln w="0">
            <a:noFill/>
          </a:ln>
        </p:spPr>
      </p:pic>
      <p:sp>
        <p:nvSpPr>
          <p:cNvPr id="77" name="Content Placeholder 2"/>
          <p:cNvSpPr/>
          <p:nvPr/>
        </p:nvSpPr>
        <p:spPr>
          <a:xfrm>
            <a:off x="274680" y="1006560"/>
            <a:ext cx="88693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Buckley Proteomics Lab –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mplete, pending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3"/>
          <p:cNvSpPr/>
          <p:nvPr/>
        </p:nvSpPr>
        <p:spPr>
          <a:xfrm>
            <a:off x="1908000" y="6585120"/>
            <a:ext cx="540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Information and Communication Services (Web), Faculty of Life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TAB_col_white_background.eps"/>
          <p:cNvPicPr/>
          <p:nvPr/>
        </p:nvPicPr>
        <p:blipFill>
          <a:blip r:embed="rId1"/>
          <a:stretch/>
        </p:blipFill>
        <p:spPr>
          <a:xfrm>
            <a:off x="281160" y="263520"/>
            <a:ext cx="1663560" cy="711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1319040" y="1920960"/>
            <a:ext cx="650592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Content Placeholder 2"/>
          <p:cNvSpPr/>
          <p:nvPr/>
        </p:nvSpPr>
        <p:spPr>
          <a:xfrm>
            <a:off x="395280" y="93816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ystems Neurophysiology Lab –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, pending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ooter Placeholder 3"/>
          <p:cNvSpPr/>
          <p:nvPr/>
        </p:nvSpPr>
        <p:spPr>
          <a:xfrm>
            <a:off x="1908000" y="6492960"/>
            <a:ext cx="540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nformation and Communication Services (Web), Faculty of Life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brand_ppt_back.jpg"/>
          <p:cNvPicPr/>
          <p:nvPr/>
        </p:nvPicPr>
        <p:blipFill>
          <a:blip r:embed="rId1"/>
          <a:stretch/>
        </p:blipFill>
        <p:spPr>
          <a:xfrm>
            <a:off x="0" y="0"/>
            <a:ext cx="9229680" cy="6923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TAB_allwhite.eps"/>
          <p:cNvPicPr/>
          <p:nvPr/>
        </p:nvPicPr>
        <p:blipFill>
          <a:blip r:embed="rId2"/>
          <a:stretch/>
        </p:blipFill>
        <p:spPr>
          <a:xfrm>
            <a:off x="522360" y="509760"/>
            <a:ext cx="1663560" cy="711000"/>
          </a:xfrm>
          <a:prstGeom prst="rect">
            <a:avLst/>
          </a:prstGeom>
          <a:ln w="0">
            <a:noFill/>
          </a:ln>
        </p:spPr>
      </p:pic>
      <p:sp>
        <p:nvSpPr>
          <p:cNvPr id="8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  <a:ea typeface="Geneva"/>
              </a:rPr>
              <a:t>Ongoing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Geneva"/>
              </a:rPr>
              <a:t>New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Geneva"/>
              </a:rPr>
              <a:t>3 lab websites (Bardgett, Petersen, Plant Sci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Geneva"/>
              </a:rPr>
              <a:t>Optometry Fac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Geneva"/>
              </a:rPr>
              <a:t>Systems Microscopy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Geneva"/>
              </a:rPr>
              <a:t>Centre for Biological 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Geneva"/>
              </a:rPr>
              <a:t>R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Geneva"/>
              </a:rPr>
              <a:t>Prepare Faculty research pages for R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1832040" y="6356520"/>
            <a:ext cx="547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Information and Communication Services (Web), Faculty of Life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51:07Z</dcterms:created>
  <dc:creator>Russell Hart</dc:creator>
  <dc:description/>
  <dc:language>en-US</dc:language>
  <cp:lastModifiedBy>Helen Robinson</cp:lastModifiedBy>
  <dcterms:modified xsi:type="dcterms:W3CDTF">2013-11-07T10:01:46Z</dcterms:modified>
  <cp:revision>70</cp:revision>
  <dc:subject/>
  <dc:title>PowerPoint Presentation</dc:title>
</cp:coreProperties>
</file>